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2C4A51-12A7-4323-9201-F55A0AC5DB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E3E8ED-6735-4406-A466-5A6FF8EFA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2C341C-FDA0-4B44-87FC-86E5B7AC13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12647C-8A2C-4D4E-8977-EB1209C38C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D5532E-30E0-4777-87D3-05DB976E72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029AFB-DEED-491F-9AD3-9DA22C2F6A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208624-04C5-496F-948B-128850CFAA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9DF556-1C15-4DCD-8D6E-3603578598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789903-0936-4021-9370-99C511E348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C5225-4006-416E-923F-3D8BB2A21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0AFFB-1B83-4C13-BD9A-F1B1EFABA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9E985-C71E-48BC-AED1-812B6A27EB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C4262-37E6-4911-9391-706B2CDD8537}"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1da"/>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0040" y="285480"/>
            <a:ext cx="7772400" cy="146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Comic Sans MS"/>
              </a:rPr>
              <a:t>Lesson Aim:</a:t>
            </a:r>
            <a:r>
              <a:rPr b="0" lang="en-GB" sz="3200" spc="-1" strike="noStrike">
                <a:solidFill>
                  <a:srgbClr val="000000"/>
                </a:solidFill>
                <a:latin typeface="Comic Sans MS"/>
              </a:rPr>
              <a:t> Gain an understanding of the technique and knowledge necessary in order to score highly in the examination.</a:t>
            </a:r>
            <a:endParaRPr b="0" lang="en-US" sz="3200" spc="-1" strike="noStrike">
              <a:solidFill>
                <a:srgbClr val="000000"/>
              </a:solidFill>
              <a:latin typeface="Calibri"/>
            </a:endParaRPr>
          </a:p>
        </p:txBody>
      </p:sp>
      <p:pic>
        <p:nvPicPr>
          <p:cNvPr id="42" name="Picture 2" descr="http://search.hp.my.aol.co.uk/aol/redir?src=image&amp;clickedItemURN=http%3A%2F%2Fmetropolitician.blogs.com%2Fscribblings_of_the_metrop%2F_scribblings_of_the_metrop_exam_scram.jpg&amp;moduleId=image_details.jsp.M&amp;clickedItemDescription=Image%20Details"/>
          <p:cNvPicPr/>
          <p:nvPr/>
        </p:nvPicPr>
        <p:blipFill>
          <a:blip r:embed="rId1"/>
          <a:stretch/>
        </p:blipFill>
        <p:spPr>
          <a:xfrm>
            <a:off x="2786040" y="2000160"/>
            <a:ext cx="3809880" cy="4419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28760" y="-360"/>
            <a:ext cx="82296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Comic Sans MS"/>
              </a:rPr>
              <a:t>Essay Technique: Overview</a:t>
            </a:r>
            <a:endParaRPr b="0" lang="en-US" sz="3200" spc="-1" strike="noStrike">
              <a:solidFill>
                <a:srgbClr val="000000"/>
              </a:solidFill>
              <a:latin typeface="Calibri"/>
            </a:endParaRPr>
          </a:p>
        </p:txBody>
      </p:sp>
      <p:sp>
        <p:nvSpPr>
          <p:cNvPr id="44" name=""/>
          <p:cNvSpPr txBox="1"/>
          <p:nvPr/>
        </p:nvSpPr>
        <p:spPr>
          <a:xfrm>
            <a:off x="499680" y="1071720"/>
            <a:ext cx="8186760" cy="5054400"/>
          </a:xfrm>
          <a:prstGeom prst="rect">
            <a:avLst/>
          </a:prstGeom>
          <a:noFill/>
          <a:ln w="0">
            <a:noFill/>
          </a:ln>
        </p:spPr>
        <p:txBody>
          <a:bodyPr anchor="t">
            <a:normAutofit/>
          </a:bodyPr>
          <a:p>
            <a:pPr marL="343080" indent="-343080">
              <a:lnSpc>
                <a:spcPct val="90000"/>
              </a:lnSpc>
              <a:spcBef>
                <a:spcPts val="675"/>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70c0"/>
                </a:solidFill>
                <a:latin typeface="Comic Sans MS"/>
              </a:rPr>
              <a:t>The same basic principles from your AS essay paper apply: argue a variety of interpretations, give examples, draw sustained conclusion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omic Sans MS"/>
              </a:rPr>
              <a:t>BUT this </a:t>
            </a:r>
            <a:r>
              <a:rPr b="0" lang="en-GB" sz="2700" spc="-1" strike="noStrike" u="sng">
                <a:solidFill>
                  <a:srgbClr val="000000"/>
                </a:solidFill>
                <a:uFillTx/>
                <a:latin typeface="Comic Sans MS"/>
              </a:rPr>
              <a:t>is</a:t>
            </a:r>
            <a:r>
              <a:rPr b="0" lang="en-GB" sz="2700" spc="-1" strike="noStrike">
                <a:solidFill>
                  <a:srgbClr val="000000"/>
                </a:solidFill>
                <a:latin typeface="Comic Sans MS"/>
              </a:rPr>
              <a:t> a thematic paper. Therefore you MUST</a:t>
            </a:r>
            <a:endParaRPr b="0" lang="en-US" sz="2700" spc="-1" strike="noStrike">
              <a:solidFill>
                <a:srgbClr val="000000"/>
              </a:solidFill>
              <a:latin typeface="Calibri"/>
            </a:endParaRPr>
          </a:p>
          <a:p>
            <a:pPr marL="343080" indent="-343080">
              <a:lnSpc>
                <a:spcPct val="90000"/>
              </a:lnSpc>
              <a:spcBef>
                <a:spcPts val="675"/>
              </a:spcBef>
              <a:buClr>
                <a:srgbClr val="0070c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70c0"/>
                </a:solidFill>
                <a:latin typeface="Comic Sans MS"/>
              </a:rPr>
              <a:t>Ensure that if you take a chronological route that your essay is not narrative. This is much more heavily penalised at A2. A thematic route is better but not always possibl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omic Sans MS"/>
              </a:rPr>
              <a:t>Evaluate </a:t>
            </a:r>
            <a:r>
              <a:rPr b="0" lang="en-GB" sz="2700" spc="-1" strike="noStrike" u="sng">
                <a:solidFill>
                  <a:srgbClr val="000000"/>
                </a:solidFill>
                <a:uFillTx/>
                <a:latin typeface="Comic Sans MS"/>
              </a:rPr>
              <a:t>throughout</a:t>
            </a:r>
            <a:endParaRPr b="0" lang="en-US" sz="2700" spc="-1" strike="noStrike">
              <a:solidFill>
                <a:srgbClr val="000000"/>
              </a:solidFill>
              <a:latin typeface="Calibri"/>
            </a:endParaRPr>
          </a:p>
          <a:p>
            <a:pPr marL="343080" indent="-343080">
              <a:lnSpc>
                <a:spcPct val="90000"/>
              </a:lnSpc>
              <a:spcBef>
                <a:spcPts val="675"/>
              </a:spcBef>
              <a:buClr>
                <a:srgbClr val="0070c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70c0"/>
                </a:solidFill>
                <a:latin typeface="Comic Sans MS"/>
              </a:rPr>
              <a:t>Cover the whole time-period unless otherwise stated</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4">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4">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571680" y="0"/>
            <a:ext cx="822960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Comic Sans MS"/>
              </a:rPr>
              <a:t>How to structure your essay</a:t>
            </a:r>
            <a:endParaRPr b="0" lang="en-US" sz="3200" spc="-1" strike="noStrike">
              <a:solidFill>
                <a:srgbClr val="000000"/>
              </a:solidFill>
              <a:latin typeface="Calibri"/>
            </a:endParaRPr>
          </a:p>
        </p:txBody>
      </p:sp>
      <p:sp>
        <p:nvSpPr>
          <p:cNvPr id="46" name=""/>
          <p:cNvSpPr txBox="1"/>
          <p:nvPr/>
        </p:nvSpPr>
        <p:spPr>
          <a:xfrm>
            <a:off x="213840" y="1000080"/>
            <a:ext cx="8572680" cy="55720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Introduce 3 main </a:t>
            </a:r>
            <a:r>
              <a:rPr b="0" lang="en-GB" sz="2000" spc="-1" strike="noStrike" u="sng">
                <a:solidFill>
                  <a:srgbClr val="000000"/>
                </a:solidFill>
                <a:uFillTx/>
                <a:latin typeface="Comic Sans MS"/>
              </a:rPr>
              <a:t>arguments</a:t>
            </a:r>
            <a:r>
              <a:rPr b="0" lang="en-GB" sz="2000" spc="-1" strike="noStrike">
                <a:solidFill>
                  <a:srgbClr val="000000"/>
                </a:solidFill>
                <a:latin typeface="Comic Sans MS"/>
              </a:rPr>
              <a:t> , examine 3 arguments, draw sustained conclus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Comic Sans MS"/>
              </a:rPr>
              <a:t>You can choose your arguments from the following structur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Comic Sans MS"/>
              </a:rPr>
              <a:t>-Time periods (especially using specialist vocab- reconstruction, pre-war, wars, inter-war period, cold war period) but also by chronological movements (black power etc)</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Comic Sans MS"/>
              </a:rPr>
              <a:t>-Assertion in the question and counter-argument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Comic Sans MS"/>
              </a:rPr>
              <a:t>-Economic/social/political factors, influences or outcom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Comic Sans MS"/>
              </a:rPr>
              <a:t>-Positives vs. Negativ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Comic Sans MS"/>
              </a:rPr>
              <a:t>-Continuity and change</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Comic Sans MS"/>
              </a:rPr>
              <a:t>-Comparison of people/policies/movement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Comic Sans MS"/>
              </a:rPr>
              <a:t>-Comparison of congress/supreme court/presidenci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Each method has pros and cons. It should be clear to you which is the most suitable for answering the question put before you. Using one of these structures will encourage evaluation which carries the highest marks. You are EXPECTED to think carefully about structure and to include this in your planning (which I like to see).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46">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46">
                                            <p:txEl>
                                              <p:pRg st="3" end="3"/>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46">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46">
                                            <p:txEl>
                                              <p:pRg st="5" end="5"/>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46">
                                            <p:txEl>
                                              <p:pRg st="6" end="6"/>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46">
                                            <p:txEl>
                                              <p:pRg st="7" end="7"/>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46">
                                            <p:txEl>
                                              <p:pRg st="8" end="8"/>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46">
                                            <p:txEl>
                                              <p:pRg st="9" end="9"/>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46">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500040" y="-360"/>
            <a:ext cx="82296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Comic Sans MS"/>
              </a:rPr>
              <a:t>Ways of evaluating</a:t>
            </a:r>
            <a:endParaRPr b="0" lang="en-US" sz="3200" spc="-1" strike="noStrike">
              <a:solidFill>
                <a:srgbClr val="000000"/>
              </a:solidFill>
              <a:latin typeface="Calibri"/>
            </a:endParaRPr>
          </a:p>
        </p:txBody>
      </p:sp>
      <p:sp>
        <p:nvSpPr>
          <p:cNvPr id="48" name=""/>
          <p:cNvSpPr txBox="1"/>
          <p:nvPr/>
        </p:nvSpPr>
        <p:spPr>
          <a:xfrm>
            <a:off x="214200" y="857160"/>
            <a:ext cx="8715600" cy="5857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Evaluation should be present throughout your essay. Some examples of how to gain evaluation points are as follow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Identifying a key turning poi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Pointing out the limitations of a particular argu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Judge the most influential/important /significant f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Judge ‘how far’ progress was made/a situation changed</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Linking factors or events together (causation- it wouldn’t have.. if...)</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Comic Sans MS"/>
              </a:rPr>
              <a:t>Remember to use adjectives in order to give your judgements more focus and weigh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Comic Sans MS"/>
              </a:rPr>
              <a:t>-Limited</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Comic Sans MS"/>
              </a:rPr>
              <a:t>-Signific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Comic Sans MS"/>
              </a:rPr>
              <a:t>-Some</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Comic Sans MS"/>
              </a:rPr>
              <a:t>-Further</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Comic Sans MS"/>
              </a:rPr>
              <a:t>-Higher/lowe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48">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48">
                                            <p:txEl>
                                              <p:pRg st="2" end="2"/>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48">
                                            <p:txEl>
                                              <p:pRg st="3" end="3"/>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48">
                                            <p:txEl>
                                              <p:pRg st="4" end="4"/>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48">
                                            <p:txEl>
                                              <p:pRg st="5" end="5"/>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48">
                                            <p:txEl>
                                              <p:pRg st="6" end="6"/>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48">
                                            <p:txEl>
                                              <p:pRg st="8" end="8"/>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48">
                                            <p:txEl>
                                              <p:pRg st="10" end="1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48">
                                            <p:txEl>
                                              <p:pRg st="11" end="11"/>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48">
                                            <p:txEl>
                                              <p:pRg st="12" end="12"/>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48">
                                            <p:txEl>
                                              <p:pRg st="13" end="13"/>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48">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Comic Sans MS"/>
              </a:rPr>
              <a:t>Keywords the examiners Like</a:t>
            </a:r>
            <a:endParaRPr b="0" lang="en-US" sz="4400" spc="-1" strike="noStrike">
              <a:solidFill>
                <a:srgbClr val="000000"/>
              </a:solidFill>
              <a:latin typeface="Calibri"/>
            </a:endParaRPr>
          </a:p>
        </p:txBody>
      </p:sp>
      <p:graphicFrame>
        <p:nvGraphicFramePr>
          <p:cNvPr id="50" name=""/>
          <p:cNvGraphicFramePr/>
          <p:nvPr/>
        </p:nvGraphicFramePr>
        <p:xfrm>
          <a:off x="457200" y="1600200"/>
          <a:ext cx="8400960" cy="4124160"/>
        </p:xfrm>
        <a:graphic>
          <a:graphicData uri="http://schemas.openxmlformats.org/drawingml/2006/table">
            <a:tbl>
              <a:tblPr/>
              <a:tblGrid>
                <a:gridCol w="2100240"/>
                <a:gridCol w="2100240"/>
                <a:gridCol w="2100240"/>
                <a:gridCol w="2100240"/>
              </a:tblGrid>
              <a:tr h="1042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Positive/Negative</a:t>
                      </a:r>
                      <a:endParaRPr b="0" lang="en-US" sz="16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Ongoing</a:t>
                      </a:r>
                      <a:endParaRPr b="0" lang="en-US" sz="16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Long-term/short-term</a:t>
                      </a:r>
                      <a:endParaRPr b="0" lang="en-US" sz="16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Change</a:t>
                      </a:r>
                      <a:endParaRPr b="0" lang="en-US" sz="16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r h="102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By the...</a:t>
                      </a:r>
                      <a:endParaRPr b="0" lang="en-US" sz="16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Success/failure</a:t>
                      </a:r>
                      <a:endParaRPr b="0" lang="en-US" sz="16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Progress</a:t>
                      </a:r>
                      <a:endParaRPr b="0" lang="en-US" sz="16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Influence</a:t>
                      </a:r>
                      <a:endParaRPr b="0" lang="en-US" sz="16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solidFill>
                      <a:srgbClr val="fcddcf"/>
                    </a:solidFill>
                  </a:tcPr>
                </a:tc>
              </a:tr>
              <a:tr h="102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Continuation</a:t>
                      </a:r>
                      <a:endParaRPr b="0" lang="en-US" sz="16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Contribution</a:t>
                      </a:r>
                      <a:endParaRPr b="0" lang="en-US" sz="16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Development</a:t>
                      </a:r>
                      <a:endParaRPr b="0" lang="en-US" sz="16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Interpretation</a:t>
                      </a:r>
                      <a:endParaRPr b="0" lang="en-US" sz="16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r h="102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Conversely</a:t>
                      </a:r>
                      <a:endParaRPr b="0" lang="en-US" sz="16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However</a:t>
                      </a:r>
                      <a:endParaRPr b="0" lang="en-US" sz="16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Cause/consequence</a:t>
                      </a:r>
                      <a:endParaRPr b="0" lang="en-US" sz="16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Throughout</a:t>
                      </a:r>
                      <a:endParaRPr b="0" lang="en-US" sz="16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solidFill>
                      <a:srgbClr val="fcddc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0000"/>
                </a:solidFill>
                <a:uFillTx/>
                <a:latin typeface="Comic Sans MS"/>
              </a:rPr>
              <a:t>Revision Technique: Knowledge</a:t>
            </a:r>
            <a:br>
              <a:rPr sz="4000"/>
            </a:br>
            <a:r>
              <a:rPr b="0" lang="en-GB" sz="2400" spc="-1" strike="noStrike" u="sng">
                <a:solidFill>
                  <a:srgbClr val="ff0000"/>
                </a:solidFill>
                <a:uFillTx/>
                <a:latin typeface="Comic Sans MS"/>
              </a:rPr>
              <a:t>(revision must be active)</a:t>
            </a:r>
            <a:endParaRPr b="0" lang="en-US" sz="2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omic Sans MS"/>
              </a:rPr>
              <a:t>Date lis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omic Sans MS"/>
              </a:rPr>
              <a:t>Spider diagra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omic Sans MS"/>
              </a:rPr>
              <a:t>Recording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omic Sans MS"/>
              </a:rPr>
              <a:t>Rhym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omic Sans MS"/>
              </a:rPr>
              <a:t>Testing yourself and by other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omic Sans MS"/>
              </a:rPr>
              <a:t>Table for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omic Sans MS"/>
              </a:rPr>
              <a:t>Revision card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omic Sans MS"/>
              </a:rPr>
              <a:t>Re-writing not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omic Sans MS"/>
              </a:rPr>
              <a:t>Memorise a page, recall it</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214200" y="142920"/>
            <a:ext cx="8715600" cy="6572160"/>
          </a:xfrm>
          <a:prstGeom prst="rect">
            <a:avLst/>
          </a:prstGeom>
          <a:noFill/>
          <a:ln w="0">
            <a:noFill/>
          </a:ln>
        </p:spPr>
        <p:txBody>
          <a:bodyPr anchor="t">
            <a:normAutofit/>
          </a:bodyPr>
          <a:p>
            <a:pPr marL="343080" indent="-343080">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omic Sans MS"/>
              </a:rPr>
              <a:t>Introduction:</a:t>
            </a:r>
            <a:r>
              <a:rPr b="0" lang="en-US" sz="1400" spc="-1" strike="noStrike">
                <a:solidFill>
                  <a:srgbClr val="000000"/>
                </a:solidFill>
                <a:latin typeface="Comic Sans MS"/>
              </a:rPr>
              <a:t> </a:t>
            </a:r>
            <a:endParaRPr b="0" lang="en-US" sz="1400" spc="-1" strike="noStrike">
              <a:solidFill>
                <a:srgbClr val="000000"/>
              </a:solidFill>
              <a:latin typeface="Calibri"/>
            </a:endParaRPr>
          </a:p>
          <a:p>
            <a:pPr marL="343080" indent="-343080">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his should begin by outlining the different interpretations that you will be discussing and touching upon the subject matter you will be using to support your arguments</a:t>
            </a:r>
            <a:endParaRPr b="0" lang="en-US" sz="1400" spc="-1" strike="noStrike">
              <a:solidFill>
                <a:srgbClr val="000000"/>
              </a:solidFill>
              <a:latin typeface="Calibri"/>
            </a:endParaRPr>
          </a:p>
          <a:p>
            <a:pPr marL="343080" indent="-343080">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You will also need to define any terms or explain by what criteria you will be examining the issue.</a:t>
            </a:r>
            <a:endParaRPr b="0" lang="en-US" sz="1400" spc="-1" strike="noStrike">
              <a:solidFill>
                <a:srgbClr val="000000"/>
              </a:solidFill>
              <a:latin typeface="Calibri"/>
            </a:endParaRPr>
          </a:p>
          <a:p>
            <a:pPr marL="343080" indent="-343080">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g. </a:t>
            </a:r>
            <a:r>
              <a:rPr b="0" i="1" lang="en-US" sz="1400" spc="-1" strike="noStrike">
                <a:solidFill>
                  <a:srgbClr val="000000"/>
                </a:solidFill>
                <a:latin typeface="Comic Sans MS"/>
              </a:rPr>
              <a:t>This essay will compare the relative advantages of cats and dogs. The advantages and disadvantages will be judged according to the following criteria: Expense, cleanliness and loyalty.</a:t>
            </a:r>
            <a:endParaRPr b="0" lang="en-US" sz="1400" spc="-1" strike="noStrike">
              <a:solidFill>
                <a:srgbClr val="000000"/>
              </a:solidFill>
              <a:latin typeface="Calibri"/>
            </a:endParaRPr>
          </a:p>
          <a:p>
            <a:pPr marL="343080" indent="-343080">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omic Sans MS"/>
              </a:rPr>
              <a:t>Main:</a:t>
            </a:r>
            <a:endParaRPr b="0" lang="en-US" sz="1400" spc="-1" strike="noStrike">
              <a:solidFill>
                <a:srgbClr val="000000"/>
              </a:solidFill>
              <a:latin typeface="Calibri"/>
            </a:endParaRPr>
          </a:p>
          <a:p>
            <a:pPr marL="343080" indent="-343080">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his should consist of a series of paragraphs, equally weighted to each interpretation/argument. Use the Formula: SEgXY:</a:t>
            </a:r>
            <a:endParaRPr b="0" lang="en-US" sz="1400" spc="-1" strike="noStrike">
              <a:solidFill>
                <a:srgbClr val="000000"/>
              </a:solidFill>
              <a:latin typeface="Calibri"/>
            </a:endParaRPr>
          </a:p>
          <a:p>
            <a:pPr marL="343080" indent="-343080">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a:t>
            </a:r>
            <a:r>
              <a:rPr b="0" lang="en-US" sz="1400" spc="-1" strike="noStrike">
                <a:solidFill>
                  <a:srgbClr val="000000"/>
                </a:solidFill>
                <a:latin typeface="Comic Sans MS"/>
              </a:rPr>
              <a:t>tatement: Cats are cheaper and therefore better than dogs</a:t>
            </a:r>
            <a:endParaRPr b="0" lang="en-US" sz="1400" spc="-1" strike="noStrike">
              <a:solidFill>
                <a:srgbClr val="000000"/>
              </a:solidFill>
              <a:latin typeface="Calibri"/>
            </a:endParaRPr>
          </a:p>
          <a:p>
            <a:pPr marL="343080" indent="-343080">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Eg</a:t>
            </a:r>
            <a:r>
              <a:rPr b="0" lang="en-US" sz="1400" spc="-1" strike="noStrike">
                <a:solidFill>
                  <a:srgbClr val="000000"/>
                </a:solidFill>
                <a:latin typeface="Comic Sans MS"/>
              </a:rPr>
              <a:t>: For example vets’ fees for cat are 25% lower than for dogs on average for comparable treatments according to Andersen (2007)</a:t>
            </a:r>
            <a:endParaRPr b="0" lang="en-US" sz="1400" spc="-1" strike="noStrike">
              <a:solidFill>
                <a:srgbClr val="000000"/>
              </a:solidFill>
              <a:latin typeface="Calibri"/>
            </a:endParaRPr>
          </a:p>
          <a:p>
            <a:pPr marL="343080" indent="-343080">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eX</a:t>
            </a:r>
            <a:r>
              <a:rPr b="0" lang="en-US" sz="1400" spc="-1" strike="noStrike">
                <a:solidFill>
                  <a:srgbClr val="000000"/>
                </a:solidFill>
                <a:latin typeface="Comic Sans MS"/>
              </a:rPr>
              <a:t>planation: The lower cost of maintaining a cat compared with a dog is a major advantage of keeping a cat as a pet as it represents a smaller financial burden on the owner, freeing up money for other things and a more realistic option for lower income earners.</a:t>
            </a:r>
            <a:endParaRPr b="0" lang="en-US" sz="1400" spc="-1" strike="noStrike">
              <a:solidFill>
                <a:srgbClr val="000000"/>
              </a:solidFill>
              <a:latin typeface="Calibri"/>
            </a:endParaRPr>
          </a:p>
          <a:p>
            <a:pPr marL="343080" indent="-343080">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Y</a:t>
            </a:r>
            <a:r>
              <a:rPr b="0" lang="en-US" sz="1400" spc="-1" strike="noStrike">
                <a:solidFill>
                  <a:srgbClr val="000000"/>
                </a:solidFill>
                <a:latin typeface="Comic Sans MS"/>
              </a:rPr>
              <a:t>-valuation: Although a cheaper option in principle, smaller breeds of dogs require similar spending in terms of upkeep and vetinary bills. Therefore, this argument is dependent on the size of the animal.</a:t>
            </a:r>
            <a:endParaRPr b="0" lang="en-US" sz="1400" spc="-1" strike="noStrike">
              <a:solidFill>
                <a:srgbClr val="000000"/>
              </a:solidFill>
              <a:latin typeface="Calibri"/>
            </a:endParaRPr>
          </a:p>
          <a:p>
            <a:pPr marL="343080" indent="-343080">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omic Sans MS"/>
              </a:rPr>
              <a:t>Conclusion:</a:t>
            </a:r>
            <a:endParaRPr b="0" lang="en-US" sz="1400" spc="-1" strike="noStrike">
              <a:solidFill>
                <a:srgbClr val="000000"/>
              </a:solidFill>
              <a:latin typeface="Calibri"/>
            </a:endParaRPr>
          </a:p>
          <a:p>
            <a:pPr marL="343080" indent="-343080">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You need to </a:t>
            </a:r>
            <a:r>
              <a:rPr b="0" lang="en-US" sz="1400" spc="-1" strike="noStrike" u="sng">
                <a:solidFill>
                  <a:srgbClr val="000000"/>
                </a:solidFill>
                <a:uFillTx/>
                <a:latin typeface="Comic Sans MS"/>
              </a:rPr>
              <a:t>reach</a:t>
            </a:r>
            <a:r>
              <a:rPr b="0" lang="en-US" sz="1400" spc="-1" strike="noStrike">
                <a:solidFill>
                  <a:srgbClr val="000000"/>
                </a:solidFill>
                <a:latin typeface="Comic Sans MS"/>
              </a:rPr>
              <a:t> a conclusion. This means deciding upon which side of the argument with which you agree or you feel holds the most weight. You need to use the arguments in your paragraphs to </a:t>
            </a:r>
            <a:r>
              <a:rPr b="0" lang="en-US" sz="1400" spc="-1" strike="noStrike" u="sng">
                <a:solidFill>
                  <a:srgbClr val="000000"/>
                </a:solidFill>
                <a:uFillTx/>
                <a:latin typeface="Comic Sans MS"/>
              </a:rPr>
              <a:t>inform</a:t>
            </a:r>
            <a:r>
              <a:rPr b="0" lang="en-US" sz="1400" spc="-1" strike="noStrike">
                <a:solidFill>
                  <a:srgbClr val="000000"/>
                </a:solidFill>
                <a:latin typeface="Comic Sans MS"/>
              </a:rPr>
              <a:t> you opinion- if you can’t back it up it counts for nothing! </a:t>
            </a:r>
            <a:endParaRPr b="0" lang="en-US" sz="1400" spc="-1" strike="noStrike">
              <a:solidFill>
                <a:srgbClr val="000000"/>
              </a:solidFill>
              <a:latin typeface="Calibri"/>
            </a:endParaRPr>
          </a:p>
          <a:p>
            <a:pPr marL="343080" indent="-343080">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void informal language like “I think”. Try:</a:t>
            </a:r>
            <a:endParaRPr b="0" lang="en-US" sz="1400" spc="-1" strike="noStrike">
              <a:solidFill>
                <a:srgbClr val="000000"/>
              </a:solidFill>
              <a:latin typeface="Calibri"/>
            </a:endParaRPr>
          </a:p>
          <a:p>
            <a:pPr marL="343080" indent="-343080">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he evidence would suggest…</a:t>
            </a:r>
            <a:endParaRPr b="0" lang="en-US" sz="1400" spc="-1" strike="noStrike">
              <a:solidFill>
                <a:srgbClr val="000000"/>
              </a:solidFill>
              <a:latin typeface="Calibri"/>
            </a:endParaRPr>
          </a:p>
          <a:p>
            <a:pPr marL="343080" indent="-343080">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n balance it would appear that X is the stronger argument because…</a:t>
            </a:r>
            <a:endParaRPr b="0" lang="en-US" sz="1400" spc="-1" strike="noStrike">
              <a:solidFill>
                <a:srgbClr val="000000"/>
              </a:solidFill>
              <a:latin typeface="Calibri"/>
            </a:endParaRPr>
          </a:p>
          <a:p>
            <a:pPr marL="343080" indent="-343080">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t would appear that…</a:t>
            </a:r>
            <a:endParaRPr b="0" lang="en-US" sz="1400" spc="-1" strike="noStrike">
              <a:solidFill>
                <a:srgbClr val="000000"/>
              </a:solidFill>
              <a:latin typeface="Calibri"/>
            </a:endParaRPr>
          </a:p>
          <a:p>
            <a:pPr marL="343080" indent="-343080">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mic Sans MS"/>
              </a:rPr>
              <a:t>e.g. It appears that Cats are more advantageous pets than dogs in terms of cost and cleanliness. As these are the two practical criteria by which the animals were judged, and not open to individual opinion as is the case with loyalty, one may be justified in forming a conclusion that cats hold more advantages than dogs overall upon this basis. However, it must be remembered that owners seek pets for different reasons and that the pets must be compatible with their differing lifestyles. Therefore this discussion can only give a general overview, which must be measured by the individual circumstances and desire of the prospective owner. For example if the purpose of a dog is to protect a property, even a far less expensive cat would be disadvantageous by comparison.</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4T09:52:58Z</dcterms:created>
  <dc:creator>louisa</dc:creator>
  <dc:description/>
  <dc:language>en-US</dc:language>
  <cp:lastModifiedBy>louisa</cp:lastModifiedBy>
  <dcterms:modified xsi:type="dcterms:W3CDTF">2009-08-05T11:33:12Z</dcterms:modified>
  <cp:revision>5</cp:revision>
  <dc:subject/>
  <dc:title>Starter Task:</dc:title>
</cp:coreProperties>
</file>